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1520C41-BBF5-44BD-968B-D88AD9A7FA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54080" y="312840"/>
            <a:ext cx="847800" cy="6544080"/>
            <a:chOff x="154080" y="312840"/>
            <a:chExt cx="847800" cy="6544080"/>
          </a:xfrm>
        </p:grpSpPr>
        <p:sp>
          <p:nvSpPr>
            <p:cNvPr id="1" name=""/>
            <p:cNvSpPr/>
            <p:nvPr/>
          </p:nvSpPr>
          <p:spPr>
            <a:xfrm>
              <a:off x="155520" y="31399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5520" y="40831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54080" y="50245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154080" y="5970600"/>
              <a:ext cx="846360" cy="886320"/>
            </a:xfrm>
            <a:custGeom>
              <a:avLst/>
              <a:gdLst/>
              <a:ahLst/>
              <a:rect l="0" t="0" r="r" b="b"/>
              <a:pathLst>
                <a:path w="2351" h="2462">
                  <a:moveTo>
                    <a:pt x="2351" y="0"/>
                  </a:moveTo>
                  <a:lnTo>
                    <a:pt x="2351" y="1723"/>
                  </a:lnTo>
                  <a:lnTo>
                    <a:pt x="0" y="2462"/>
                  </a:lnTo>
                  <a:lnTo>
                    <a:pt x="0" y="739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55520" y="31284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154080" y="124920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54080" y="219564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5151e"/>
              </a:gs>
              <a:gs pos="50000">
                <a:srgbClr val="1c6d9a"/>
              </a:gs>
              <a:gs pos="100000">
                <a:srgbClr val="05151e"/>
              </a:gs>
            </a:gsLst>
            <a:lin ang="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547560" y="1703520"/>
            <a:ext cx="8596800" cy="254520"/>
          </a:xfrm>
          <a:custGeom>
            <a:avLst/>
            <a:gdLst/>
            <a:ahLst/>
            <a:rect l="0" t="0" r="r" b="b"/>
            <a:pathLst>
              <a:path w="23880" h="707">
                <a:moveTo>
                  <a:pt x="23880" y="0"/>
                </a:moveTo>
                <a:lnTo>
                  <a:pt x="23880" y="707"/>
                </a:lnTo>
                <a:lnTo>
                  <a:pt x="7164" y="707"/>
                </a:lnTo>
                <a:lnTo>
                  <a:pt x="0" y="353"/>
                </a:lnTo>
                <a:lnTo>
                  <a:pt x="7164" y="0"/>
                </a:lnTo>
                <a:lnTo>
                  <a:pt x="23880" y="0"/>
                </a:lnTo>
                <a:close/>
              </a:path>
            </a:pathLst>
          </a:custGeom>
          <a:gradFill rotWithShape="0">
            <a:gsLst>
              <a:gs pos="0">
                <a:srgbClr val="05151e"/>
              </a:gs>
              <a:gs pos="50000">
                <a:srgbClr val="1c6d9a"/>
              </a:gs>
              <a:gs pos="100000">
                <a:srgbClr val="05151e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460440" y="1706400"/>
            <a:ext cx="295200" cy="2746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>
            <a:off x="463680" y="1913040"/>
            <a:ext cx="19044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"/>
          <p:cNvSpPr/>
          <p:nvPr/>
        </p:nvSpPr>
        <p:spPr>
          <a:xfrm>
            <a:off x="9209160" y="1676520"/>
            <a:ext cx="304920" cy="2746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"/>
          <p:cNvSpPr/>
          <p:nvPr/>
        </p:nvSpPr>
        <p:spPr>
          <a:xfrm>
            <a:off x="457200" y="1739880"/>
            <a:ext cx="8751960" cy="1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" name=""/>
          <p:cNvGrpSpPr/>
          <p:nvPr/>
        </p:nvGrpSpPr>
        <p:grpSpPr>
          <a:xfrm>
            <a:off x="150840" y="0"/>
            <a:ext cx="851040" cy="6858360"/>
            <a:chOff x="150840" y="0"/>
            <a:chExt cx="851040" cy="6858360"/>
          </a:xfrm>
        </p:grpSpPr>
        <p:sp>
          <p:nvSpPr>
            <p:cNvPr id="15" name=""/>
            <p:cNvSpPr/>
            <p:nvPr/>
          </p:nvSpPr>
          <p:spPr>
            <a:xfrm>
              <a:off x="155520" y="36115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54080" y="4556160"/>
              <a:ext cx="846360" cy="897120"/>
            </a:xfrm>
            <a:custGeom>
              <a:avLst/>
              <a:gdLst/>
              <a:ahLst/>
              <a:rect l="0" t="0" r="r" b="b"/>
              <a:pathLst>
                <a:path w="2351" h="2492">
                  <a:moveTo>
                    <a:pt x="0" y="0"/>
                  </a:moveTo>
                  <a:lnTo>
                    <a:pt x="0" y="1745"/>
                  </a:lnTo>
                  <a:lnTo>
                    <a:pt x="2351" y="2492"/>
                  </a:lnTo>
                  <a:lnTo>
                    <a:pt x="2351" y="74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54080" y="549756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54080" y="781200"/>
              <a:ext cx="846360" cy="897120"/>
            </a:xfrm>
            <a:custGeom>
              <a:avLst/>
              <a:gdLst/>
              <a:ahLst/>
              <a:rect l="0" t="0" r="r" b="b"/>
              <a:pathLst>
                <a:path w="2351" h="2492">
                  <a:moveTo>
                    <a:pt x="0" y="0"/>
                  </a:moveTo>
                  <a:lnTo>
                    <a:pt x="0" y="1745"/>
                  </a:lnTo>
                  <a:lnTo>
                    <a:pt x="2351" y="2492"/>
                  </a:lnTo>
                  <a:lnTo>
                    <a:pt x="2351" y="74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54080" y="172260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54080" y="266868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155520" y="0"/>
              <a:ext cx="844920" cy="738720"/>
            </a:xfrm>
            <a:custGeom>
              <a:avLst/>
              <a:gdLst/>
              <a:ahLst/>
              <a:rect l="0" t="0" r="r" b="b"/>
              <a:pathLst>
                <a:path w="2347" h="2052">
                  <a:moveTo>
                    <a:pt x="4" y="0"/>
                  </a:moveTo>
                  <a:lnTo>
                    <a:pt x="0" y="733"/>
                  </a:lnTo>
                  <a:lnTo>
                    <a:pt x="2347" y="2052"/>
                  </a:lnTo>
                  <a:lnTo>
                    <a:pt x="2347" y="887"/>
                  </a:lnTo>
                  <a:lnTo>
                    <a:pt x="759" y="0"/>
                  </a:lnTo>
                  <a:lnTo>
                    <a:pt x="4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150840" y="6445080"/>
              <a:ext cx="725760" cy="413280"/>
            </a:xfrm>
            <a:custGeom>
              <a:avLst/>
              <a:gdLst/>
              <a:ahLst/>
              <a:rect l="0" t="0" r="r" b="b"/>
              <a:pathLst>
                <a:path w="2016" h="1148">
                  <a:moveTo>
                    <a:pt x="2016" y="1130"/>
                  </a:moveTo>
                  <a:lnTo>
                    <a:pt x="4" y="0"/>
                  </a:lnTo>
                  <a:lnTo>
                    <a:pt x="0" y="1148"/>
                  </a:lnTo>
                  <a:lnTo>
                    <a:pt x="2016" y="113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733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08" name=""/>
            <p:cNvSpPr/>
            <p:nvPr/>
          </p:nvSpPr>
          <p:spPr>
            <a:xfrm>
              <a:off x="0" y="0"/>
              <a:ext cx="9144000" cy="849240"/>
            </a:xfrm>
            <a:prstGeom prst="rect">
              <a:avLst/>
            </a:prstGeom>
            <a:gradFill rotWithShape="0">
              <a:gsLst>
                <a:gs pos="0">
                  <a:srgbClr val="1a6792"/>
                </a:gs>
                <a:gs pos="100000">
                  <a:srgbClr val="2181b7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0" y="4995720"/>
              <a:ext cx="9144000" cy="1862280"/>
            </a:xfrm>
            <a:prstGeom prst="rect">
              <a:avLst/>
            </a:prstGeom>
            <a:gradFill rotWithShape="0">
              <a:gsLst>
                <a:gs pos="0">
                  <a:srgbClr val="2181b7"/>
                </a:gs>
                <a:gs pos="100000">
                  <a:srgbClr val="1a6792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154080" y="312840"/>
            <a:ext cx="847800" cy="6544080"/>
            <a:chOff x="154080" y="312840"/>
            <a:chExt cx="847800" cy="6544080"/>
          </a:xfrm>
        </p:grpSpPr>
        <p:sp>
          <p:nvSpPr>
            <p:cNvPr id="111" name=""/>
            <p:cNvSpPr/>
            <p:nvPr/>
          </p:nvSpPr>
          <p:spPr>
            <a:xfrm>
              <a:off x="155520" y="31399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5520" y="40831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080" y="50245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54080" y="5970600"/>
              <a:ext cx="846360" cy="886320"/>
            </a:xfrm>
            <a:custGeom>
              <a:avLst/>
              <a:gdLst/>
              <a:ahLst/>
              <a:rect l="0" t="0" r="r" b="b"/>
              <a:pathLst>
                <a:path w="2351" h="2462">
                  <a:moveTo>
                    <a:pt x="2351" y="0"/>
                  </a:moveTo>
                  <a:lnTo>
                    <a:pt x="2351" y="1723"/>
                  </a:lnTo>
                  <a:lnTo>
                    <a:pt x="0" y="2462"/>
                  </a:lnTo>
                  <a:lnTo>
                    <a:pt x="0" y="739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55520" y="31284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54080" y="124920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54080" y="219564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5151e"/>
              </a:gs>
              <a:gs pos="50000">
                <a:srgbClr val="1c6d9a"/>
              </a:gs>
              <a:gs pos="100000">
                <a:srgbClr val="05151e"/>
              </a:gs>
            </a:gsLst>
            <a:lin ang="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560" y="2717640"/>
            <a:ext cx="8596800" cy="254520"/>
          </a:xfrm>
          <a:custGeom>
            <a:avLst/>
            <a:gdLst/>
            <a:ahLst/>
            <a:rect l="0" t="0" r="r" b="b"/>
            <a:pathLst>
              <a:path w="23880" h="707">
                <a:moveTo>
                  <a:pt x="23880" y="0"/>
                </a:moveTo>
                <a:lnTo>
                  <a:pt x="23880" y="707"/>
                </a:lnTo>
                <a:lnTo>
                  <a:pt x="7164" y="707"/>
                </a:lnTo>
                <a:lnTo>
                  <a:pt x="0" y="353"/>
                </a:lnTo>
                <a:lnTo>
                  <a:pt x="7164" y="0"/>
                </a:lnTo>
                <a:lnTo>
                  <a:pt x="23880" y="0"/>
                </a:lnTo>
                <a:close/>
              </a:path>
            </a:pathLst>
          </a:custGeom>
          <a:gradFill rotWithShape="0">
            <a:gsLst>
              <a:gs pos="0">
                <a:srgbClr val="05151e"/>
              </a:gs>
              <a:gs pos="50000">
                <a:srgbClr val="1c6d9a"/>
              </a:gs>
              <a:gs pos="100000">
                <a:srgbClr val="05151e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33440" y="2697120"/>
            <a:ext cx="295200" cy="2746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63680" y="2700360"/>
            <a:ext cx="162000" cy="415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9236160" y="2697120"/>
            <a:ext cx="304920" cy="2746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84200" y="2760840"/>
            <a:ext cx="8751960" cy="1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150840" y="0"/>
            <a:ext cx="851040" cy="6858360"/>
            <a:chOff x="150840" y="0"/>
            <a:chExt cx="851040" cy="6858360"/>
          </a:xfrm>
        </p:grpSpPr>
        <p:sp>
          <p:nvSpPr>
            <p:cNvPr id="125" name=""/>
            <p:cNvSpPr/>
            <p:nvPr/>
          </p:nvSpPr>
          <p:spPr>
            <a:xfrm>
              <a:off x="155520" y="36115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54080" y="4556160"/>
              <a:ext cx="846360" cy="897120"/>
            </a:xfrm>
            <a:custGeom>
              <a:avLst/>
              <a:gdLst/>
              <a:ahLst/>
              <a:rect l="0" t="0" r="r" b="b"/>
              <a:pathLst>
                <a:path w="2351" h="2492">
                  <a:moveTo>
                    <a:pt x="0" y="0"/>
                  </a:moveTo>
                  <a:lnTo>
                    <a:pt x="0" y="1745"/>
                  </a:lnTo>
                  <a:lnTo>
                    <a:pt x="2351" y="2492"/>
                  </a:lnTo>
                  <a:lnTo>
                    <a:pt x="2351" y="74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54080" y="549756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54080" y="781200"/>
              <a:ext cx="846360" cy="897120"/>
            </a:xfrm>
            <a:custGeom>
              <a:avLst/>
              <a:gdLst/>
              <a:ahLst/>
              <a:rect l="0" t="0" r="r" b="b"/>
              <a:pathLst>
                <a:path w="2351" h="2492">
                  <a:moveTo>
                    <a:pt x="0" y="0"/>
                  </a:moveTo>
                  <a:lnTo>
                    <a:pt x="0" y="1745"/>
                  </a:lnTo>
                  <a:lnTo>
                    <a:pt x="2351" y="2492"/>
                  </a:lnTo>
                  <a:lnTo>
                    <a:pt x="2351" y="74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54080" y="172260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54080" y="266868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55520" y="0"/>
              <a:ext cx="844920" cy="738720"/>
            </a:xfrm>
            <a:custGeom>
              <a:avLst/>
              <a:gdLst/>
              <a:ahLst/>
              <a:rect l="0" t="0" r="r" b="b"/>
              <a:pathLst>
                <a:path w="2347" h="2052">
                  <a:moveTo>
                    <a:pt x="4" y="0"/>
                  </a:moveTo>
                  <a:lnTo>
                    <a:pt x="0" y="733"/>
                  </a:lnTo>
                  <a:lnTo>
                    <a:pt x="2347" y="2052"/>
                  </a:lnTo>
                  <a:lnTo>
                    <a:pt x="2347" y="887"/>
                  </a:lnTo>
                  <a:lnTo>
                    <a:pt x="759" y="0"/>
                  </a:lnTo>
                  <a:lnTo>
                    <a:pt x="4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50840" y="6445080"/>
              <a:ext cx="725760" cy="413280"/>
            </a:xfrm>
            <a:custGeom>
              <a:avLst/>
              <a:gdLst/>
              <a:ahLst/>
              <a:rect l="0" t="0" r="r" b="b"/>
              <a:pathLst>
                <a:path w="2016" h="1148">
                  <a:moveTo>
                    <a:pt x="2016" y="1130"/>
                  </a:moveTo>
                  <a:lnTo>
                    <a:pt x="4" y="0"/>
                  </a:lnTo>
                  <a:lnTo>
                    <a:pt x="0" y="1148"/>
                  </a:lnTo>
                  <a:lnTo>
                    <a:pt x="2016" y="113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"/>
          <p:cNvSpPr txBox="1"/>
          <p:nvPr/>
        </p:nvSpPr>
        <p:spPr>
          <a:xfrm>
            <a:off x="129528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Coda Server Intern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Peter Bra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Cont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1219320" y="2044800"/>
            <a:ext cx="3276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Threa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Star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VM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u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no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Directo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Resolution L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5029200" y="2057400"/>
            <a:ext cx="3581280" cy="43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M over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olu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no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esolution Lo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Key algorith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Areas of conc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1219320" y="2057400"/>
            <a:ext cx="9302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I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1217520" y="2406600"/>
            <a:ext cx="1982880" cy="137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olu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Directory c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AC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Reslo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219320" y="379080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olinfo recor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1219320" y="4235400"/>
            <a:ext cx="1982880" cy="8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SGD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Pdb recor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Toke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219320" y="5181480"/>
            <a:ext cx="1982880" cy="165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ervers/SC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Part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tartup fla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kipvolu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LOG &amp; DATA &amp; DB Loca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274920" y="205740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Fil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274920" y="2406600"/>
            <a:ext cx="198288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Meta Data &amp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Dir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276720" y="3778200"/>
            <a:ext cx="24382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olume lo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276720" y="449568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276720" y="5181480"/>
            <a:ext cx="198288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Configuration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5334120" y="2057400"/>
            <a:ext cx="30481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/vicep* part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4120" y="240660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RV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5335560" y="3778200"/>
            <a:ext cx="297036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LDB, VRDB: RW db fi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560" y="4191120"/>
            <a:ext cx="342756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SGDB, .pdb, .tk fil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dynamic RO db fi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335560" y="518148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tatic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44440" y="236232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144440" y="365760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4440" y="411480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144440" y="502920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144440" y="670572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RVM layout         </a:t>
            </a:r>
            <a:r>
              <a:rPr b="0" lang="en-US" sz="3200" spc="-1" strike="noStrike">
                <a:solidFill>
                  <a:srgbClr val="ccffff"/>
                </a:solidFill>
                <a:latin typeface="Impact"/>
                <a:ea typeface="Impact"/>
              </a:rPr>
              <a:t>(coda_globals.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Already_initialized (i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struct VolHead[MAXVOLS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struct VnodeDiskObject *SmallVnodeFreeLists[SM_FREESIZE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short SmallVnodeInd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…</a:t>
            </a: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. Same for large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MaxVolId (unsigned lo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Remainder is dynamically alloc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1219320" y="419040"/>
            <a:ext cx="7772400" cy="117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Volume zoo           </a:t>
            </a:r>
            <a:r>
              <a:rPr b="0" lang="en-US" sz="2400" spc="-1" strike="noStrike">
                <a:solidFill>
                  <a:srgbClr val="ccffff"/>
                </a:solidFill>
                <a:latin typeface="Impact"/>
                <a:ea typeface="Impact"/>
              </a:rPr>
              <a:t>(volume.h, camprivate.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219320" y="2044800"/>
            <a:ext cx="3352680" cy="47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VM: struc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ume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H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umeHea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umeDisk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M: struc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Volu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VolHe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VolumeInfo 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876920" y="2044800"/>
            <a:ext cx="4114800" cy="45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PC2 str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a dozen or 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Attached volumes are on a Hash table in V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Model: GetVolume (from RVM), work, Replace, Comm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Vnodes            </a:t>
            </a:r>
            <a:r>
              <a:rPr b="0" lang="en-US" sz="3200" spc="-1" strike="noStrike">
                <a:solidFill>
                  <a:srgbClr val="ccffff"/>
                </a:solidFill>
                <a:latin typeface="Impact"/>
                <a:ea typeface="Impact"/>
              </a:rPr>
              <a:t>(cvnode.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1219320" y="2044800"/>
            <a:ext cx="7772400" cy="546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Small &amp; larg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difference is ACL at back of large vn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In RV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vnodes sit on rec_smolists linking vnodes with identical vnodenumbers but different uniqif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olumes have *arrays of rec_smoli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VM: </a:t>
            </a: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nodeDiskinfo (rvm_malloc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M: </a:t>
            </a: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cvnode’s with a world of support: hash tables, freelists etc</a:t>
            </a: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Model: </a:t>
            </a: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GetVnode, work, ReplaceVnode,comm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Vnodes (ctd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Inode fiel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small vnodes: points to diskfile inode nu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large vnodes: is RVM address of dir page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Contain important small structure: vv_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Pointers to reslog en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Directo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1219320" y="2044800"/>
            <a:ext cx="7772400" cy="513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Pagetable (about to disappea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DirPag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divided into 32byte blo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Hash table &amp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Blob Free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M: maintains buffer cache for dir p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Before committing to RVM stage pages in the DirHtb (another page tabl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braam</dc:creator>
  <dc:description/>
  <dc:language>en-US</dc:language>
  <cp:lastModifiedBy>braam</cp:lastModifiedBy>
  <cp:revision>0</cp:revision>
  <dc:subject/>
  <dc:title>Coda Server Internals</dc:title>
</cp:coreProperties>
</file>