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C8B0E-9770-4681-B858-4555924D1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E8443-1553-4369-955A-7F1C58F5B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F677B-7192-44DB-AE7F-55ABD41B5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5DACD-C4F1-4229-8852-746D58AA2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1BDCB-2E60-46EC-94F2-DA086D8EC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44A5C-141C-47D6-8B37-EAFB51DAC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6040B-3137-4F63-BDD1-BF58B0479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A2217-A697-4FCC-8AB0-02DFF2350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198AF-785C-4A06-83A3-B6B65C9E4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134D3-C86E-4386-8A4D-9A25E1ED3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1F29C-7FED-4B19-B7ED-C2C38D768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01F24-9EBF-4E0E-A239-5BEB1A674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3A6A8-EBE1-4E65-8A74-4FEF7B7AC0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PC2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Snapshot of Understand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ter J. Bra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bert Wat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cket Headers (60 octets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oVer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identify protoc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RemoteHandl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SenderHand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Hand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ReceiverHandle (not need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ag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4 octets: SE, Color, 2 for RP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dyLeng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? Checksum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eqNumber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goes up by 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OpCod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to decipher requ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Fl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DataOff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ubsysId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to hand to sub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Cod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resu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mpor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distributed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quef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Stam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nd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side effec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a collection of hoo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mary purpose is to do a “pre” and “post” RPC processing, e.g.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etch(0x21.0x3.0x6) initiates and completes a side effect in RPC2 stub c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st hooks are functions: at setup, binding, before and after RPC’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so hook in the connection are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deEffect are not part of RPC2 protocol but ar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ctiv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rameter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bind and RPC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838080"/>
            <a:ext cx="9144000" cy="6098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nauthenticated Bind Protoco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143000" y="1701720"/>
            <a:ext cx="99072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143000" y="1574640"/>
            <a:ext cx="6629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52280" y="914400"/>
            <a:ext cx="858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143000" y="9144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848720" y="9144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781680" y="4476600"/>
            <a:ext cx="99072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1142640" y="432432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800600" y="2587680"/>
            <a:ext cx="3886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rver sets up a Centry for this connection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ndling runs inside SocketListen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PC system higher up run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PC2_NEWCONNECTION cod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eg ViceNewConnec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073880" y="5667480"/>
            <a:ext cx="3196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ent is told SenderHandle of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nection state set to C_THINK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128600" y="270828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027440" y="220968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nt as result of RPC2_NewBin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ent sends SenderHand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800600" y="4978440"/>
            <a:ext cx="388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rver sends same packet back with fix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nection informati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629400" y="9144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762120" y="6019920"/>
            <a:ext cx="7315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120" y="5257800"/>
            <a:ext cx="7315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120" y="4495680"/>
            <a:ext cx="7315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62120" y="38098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62120" y="31240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62120" y="24382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62120" y="17524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120" y="10666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609480"/>
            <a:ext cx="914400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5800" y="76320"/>
            <a:ext cx="7772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ice &amp;Callback Protoco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143000" y="1193760"/>
            <a:ext cx="99072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52280" y="533520"/>
            <a:ext cx="858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143000" y="5335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848720" y="53352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705720" y="1879560"/>
            <a:ext cx="99036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1143000" y="20574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71680" y="3124080"/>
            <a:ext cx="2989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rver sets up callback conne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f there isn’t one yet for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128600" y="209880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005280" y="1066680"/>
            <a:ext cx="3166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nt as result of RPC2_NewBin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ent sends SenderHand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514600" y="1752480"/>
            <a:ext cx="388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fter sending this Vice runs ViceNewConnection to register client hand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629400" y="5335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565360"/>
            <a:ext cx="182880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ewConnect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971800" y="2438280"/>
            <a:ext cx="3166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nt as result of RPC2_NewBin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ent sends SenderHand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705720" y="3200400"/>
            <a:ext cx="99036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143000" y="3936960"/>
            <a:ext cx="99072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590920" y="3809880"/>
            <a:ext cx="388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fter sending this Vice runs ViceNewConnection to register client hand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429000" y="4524480"/>
            <a:ext cx="2838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erify Client is working, make a gratuitous callb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400800" y="4622760"/>
            <a:ext cx="129528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allb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143000" y="5384880"/>
            <a:ext cx="114300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590920" y="5356080"/>
            <a:ext cx="3886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callback request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943600" y="558468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943600" y="279396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943600" y="144792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943600" y="41148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1143000" y="34290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3000" y="632448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1143000" y="48006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6172200"/>
            <a:ext cx="114300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429000" y="6048360"/>
            <a:ext cx="283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ewConnectFS now comple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i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PC2 manual describes API, we ne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tocol descri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details about intern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 implementation si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g fixes: security, laptop networking, st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iderably more clarity in implem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nges in protocols will accompany some bug fix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gnore all MultiRPC and Failure pack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al decisions will have to take these into ac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yers in RPC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yers are not clearly separ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derlying design does allow good laye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are with ISO stack and relate to it where appropriate, ie at network and transport lay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eep in mind 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828800" y="2819520"/>
            <a:ext cx="2286000" cy="1015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828800" y="4114800"/>
            <a:ext cx="2286000" cy="1015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4114800"/>
            <a:ext cx="2286000" cy="1015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e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0" y="2819520"/>
            <a:ext cx="2286000" cy="1015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e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828800" y="3962520"/>
            <a:ext cx="5029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43400" y="281952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01560" y="5464080"/>
            <a:ext cx="5641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these types of code are mix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incipal Abstra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cketBuffers: header, body; sit in a po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entry: RPC2 logical connection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ndles: point to Centry’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LEntry’s: handles for packets, with retry info, destination inf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stEntry: Encode remote host inf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04920" y="548640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144792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trans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472428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DP Trans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040280" y="5638680"/>
            <a:ext cx="178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P Addre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038480" y="4740120"/>
            <a:ext cx="243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k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r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038480" y="1447920"/>
            <a:ext cx="4419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iable transmi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ou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ndwidth adapt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n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Connections with hand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cket format, header XD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304920" y="1447920"/>
            <a:ext cx="8610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04920" y="480060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PC2 Transport Lay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04920" y="556272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ftware Protocol Lay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47242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 XD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44792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subsystem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04920" y="464832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28600" y="2911320"/>
            <a:ext cx="4191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 remote procedure c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marshal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343400" y="1447920"/>
            <a:ext cx="373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ce.rpc2, callback.rpc2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rently the “Coda protocols”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343400" y="2895480"/>
            <a:ext cx="3733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RPC is specified by an integer and takes arguments which are of such and so a type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920" y="266688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343400" y="4724280"/>
            <a:ext cx="3733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arguments for RPC’s are to be packed and unpacked in the following way. (Language Independ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304920" y="1447920"/>
            <a:ext cx="8610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5715000" y="5410080"/>
            <a:ext cx="2895480" cy="838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etwork lay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adds local IP&amp;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builds pa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715000" y="3352680"/>
            <a:ext cx="2895480" cy="1524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UDP laye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sendto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use socket f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add remote port/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XmitPa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715000" y="838080"/>
            <a:ext cx="2895480" cy="1905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acketbuffer hand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ame is SL_Ent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rrange reliable transmis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yield to SocketListen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decide on Sle-&gt;return_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SendReliably &amp; snipp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80880" y="3962520"/>
            <a:ext cx="2895840" cy="2286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ogical conne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name is CEn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map Handle to CEn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await correct state of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ne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encryption of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snippets of code all o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e.g. in RPC2_MakeRP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80880" y="838080"/>
            <a:ext cx="2286000" cy="1905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PC level (request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llocate buff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marshalling of ar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nvoke SideEffe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a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top and botto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MakeR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990720" y="28954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429000" y="2590920"/>
            <a:ext cx="2133720" cy="2666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010280" y="2819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086600" y="4952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509920" y="-57240"/>
            <a:ext cx="405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nding Protocol Lay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819520" y="838080"/>
            <a:ext cx="2286000" cy="1905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PC (repli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adds local IP&amp;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builds pa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co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SendRespons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violates layer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1219320" y="2895480"/>
            <a:ext cx="21333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5486400" y="1447920"/>
            <a:ext cx="2895480" cy="1523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pcod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andleCurrentRepl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andleOldRequest: retransm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andleCurrentRequest:  bus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andleNewReques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DecodePa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80880" y="2971800"/>
            <a:ext cx="2895840" cy="1676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acket la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ame is RPC2_PacketBuff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allocate buff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do recvfr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extract sender 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XDR on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rpc2_RecvPack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80880" y="685800"/>
            <a:ext cx="28958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etwork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ceives pack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hands to UDP lay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676520" y="2666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3505320" y="1676520"/>
            <a:ext cx="19047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590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187720" y="-46080"/>
            <a:ext cx="437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iving Protocol Lay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80880" y="1828800"/>
            <a:ext cx="28958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UDP la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nds socket, wakes up 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IOMgr hands to SocketListen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676520" y="1523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4800240" y="25909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8458200" y="1828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8763120" y="182880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800600" y="4267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657600" y="3124080"/>
            <a:ext cx="2895480" cy="1143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ubsystem Layer (request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SLEntry, locate recip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nd wake it 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FindRecipient, DeactivateS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781680" y="3505320"/>
            <a:ext cx="2210040" cy="1828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PC level (repli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ake 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n marshall, transl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rrrors, return from R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stub code &amp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MakeR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733920" y="4648320"/>
            <a:ext cx="2819160" cy="14475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PC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??_GetRequest unmarshallin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execute server RPC hand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respo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80880" y="5181480"/>
            <a:ext cx="2895840" cy="1447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nnection La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nslate SenderHandl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E_En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if no CE_Entry: Handle_INIT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decry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code lying all o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47242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505320" y="2590920"/>
            <a:ext cx="0" cy="32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352680" y="586728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16T17:10:43Z</dcterms:created>
  <dc:creator>Braam</dc:creator>
  <dc:description/>
  <dc:language>en-US</dc:language>
  <cp:lastModifiedBy>Braam</cp:lastModifiedBy>
  <cp:lastPrinted>1998-03-18T15:56:12Z</cp:lastPrinted>
  <dcterms:modified xsi:type="dcterms:W3CDTF">1998-03-18T19:42:36Z</dcterms:modified>
  <cp:revision>9</cp:revision>
  <dc:subject/>
  <dc:title>RPC2</dc:title>
</cp:coreProperties>
</file>